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594D-E694-4994-AA7D-625BDCF17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62C9-5BF6-4DE5-A265-22C6F91AC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2D85-9D66-43DF-B9C6-BBC01F497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ACA3-FDA8-41E7-8D2C-8F12CC406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A9FF-5783-4832-B1EA-B0DAD637A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E557-45E3-48D3-826C-F56CEF881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80CC-E04A-4A31-BB9D-04BE27518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73AF-2D26-494C-88E5-451A54BBA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0DC8-F012-4942-AE64-8B4744B10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.4 Population and Growth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33520" y="7952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s grow in predictable patter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hspe-0514UO"/>
          <p:cNvPicPr/>
          <p:nvPr/>
        </p:nvPicPr>
        <p:blipFill>
          <a:blip r:embed="rId1"/>
          <a:stretch/>
        </p:blipFill>
        <p:spPr>
          <a:xfrm>
            <a:off x="1143000" y="1832040"/>
            <a:ext cx="6781680" cy="44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00" y="786960"/>
            <a:ext cx="889164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hanges in a population</a:t>
            </a:r>
            <a:r>
              <a:rPr b="1" lang="ja-JP" sz="2400" spc="-1" strike="noStrike">
                <a:solidFill>
                  <a:srgbClr val="18649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s size are determined by immigration, births, emigration, and deaths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28720"/>
            <a:ext cx="3886200" cy="339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ze of a population is always chan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factors affect the size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_x0007_809.jpg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4267080" y="1866960"/>
            <a:ext cx="375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2000" y="789120"/>
            <a:ext cx="889164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Population growth is based on available resource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6224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growth is a rapid population increase due to an abundance of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bhspe-051404-002"/>
          <p:cNvPicPr/>
          <p:nvPr/>
        </p:nvPicPr>
        <p:blipFill>
          <a:blip r:embed="rId2"/>
          <a:stretch/>
        </p:blipFill>
        <p:spPr>
          <a:xfrm>
            <a:off x="533520" y="2743200"/>
            <a:ext cx="3517920" cy="319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bhspe-051404-001"/>
          <p:cNvPicPr/>
          <p:nvPr/>
        </p:nvPicPr>
        <p:blipFill>
          <a:blip r:embed="rId3"/>
          <a:stretch/>
        </p:blipFill>
        <p:spPr>
          <a:xfrm>
            <a:off x="4352760" y="2819520"/>
            <a:ext cx="4257720" cy="28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 growth is due to a population facing limited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bhspe-051404-004"/>
          <p:cNvPicPr/>
          <p:nvPr/>
        </p:nvPicPr>
        <p:blipFill>
          <a:blip r:embed="rId1"/>
          <a:stretch/>
        </p:blipFill>
        <p:spPr>
          <a:xfrm>
            <a:off x="2152800" y="1905120"/>
            <a:ext cx="4628880" cy="462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ing capacity is the maximum number of individuals in a population that the environment can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bhspe-0514da-001"/>
          <p:cNvPicPr/>
          <p:nvPr/>
        </p:nvPicPr>
        <p:blipFill>
          <a:blip r:embed="rId1"/>
          <a:stretch/>
        </p:blipFill>
        <p:spPr>
          <a:xfrm>
            <a:off x="1295280" y="2655720"/>
            <a:ext cx="6705720" cy="3973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533520" y="17524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pulation crash is a dramatic decline in the size of a population over a short perio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2000" y="914400"/>
            <a:ext cx="889164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Ecological factors limit population growth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miting factor is something that keeps the size of a population d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3520" y="2362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-dependent limiting factors are affected by the number of individuals in a give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bhspe-051404-010"/>
          <p:cNvPicPr/>
          <p:nvPr/>
        </p:nvPicPr>
        <p:blipFill>
          <a:blip r:embed="rId2"/>
          <a:stretch/>
        </p:blipFill>
        <p:spPr>
          <a:xfrm>
            <a:off x="2133720" y="3352680"/>
            <a:ext cx="4572000" cy="31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-dependent limiting factors are affected by the number of individuals in a give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33520" y="257796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sitism and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533520" y="1714680"/>
            <a:ext cx="25905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8" descr="_x0018_0443_bhspe-051404.p1.gif 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3048120" y="1803240"/>
            <a:ext cx="5410080" cy="40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91116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-independent limiting factors limit a popula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growth regardless of the d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bhspe-051404-008"/>
          <p:cNvPicPr/>
          <p:nvPr/>
        </p:nvPicPr>
        <p:blipFill>
          <a:blip r:embed="rId1"/>
          <a:stretch/>
        </p:blipFill>
        <p:spPr>
          <a:xfrm>
            <a:off x="3733920" y="1828800"/>
            <a:ext cx="4724280" cy="34495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533520" y="1701720"/>
            <a:ext cx="38862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usual 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dis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ma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PIRRAGLIA, MELISSA</cp:lastModifiedBy>
  <dcterms:modified xsi:type="dcterms:W3CDTF">2013-02-21T18:39:49Z</dcterms:modified>
  <cp:revision>145</cp:revision>
  <dc:subject/>
  <dc:title>PowerPoint Presentation</dc:title>
</cp:coreProperties>
</file>